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3.wmf" ContentType="image/x-wmf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4.wmf" ContentType="image/x-wmf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D92ED-80D5-45A4-B574-5AB605E51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464E7-C15F-4825-9746-7723A8DED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CB88A-9D69-435E-8CD9-01A65762F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73DB2-77E3-44D7-8663-ED062957F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25F75-82B8-4F02-8854-AC0F6E26A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6C6DD-2901-4C3E-96E2-62CE49A8C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67FD2-F780-4945-9DF3-F21748241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3869B-12FC-4BF5-BE18-F5B28379E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722D3-E712-4CFB-91E7-D064C549B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52CBE-A608-4DE1-BC86-35C2ED1C0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B3859-41DE-4E04-9B04-8F3408BFA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3B08E-FBF4-4B60-BD64-E0FD55D7F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9FCBE-54E8-4CDC-A77D-FEB35EC60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41514-A108-4A18-96B0-9EFF99CB4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18E61-1715-4BC0-8DE5-4E1DBE862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9B7BC-CA5F-436C-A599-F2F1A2AF6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DAEFA-99B4-4EDC-AB0C-266B3451F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68C2D-2C63-4BF1-A125-6C0B381D5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43F6C-D7F6-4BF0-8B1D-CAEF03CC6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98DE5-0C5E-4930-9116-372EAC02D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ACC60-C75B-4F2D-B160-932CFD9A9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E681B-5972-4EAD-9C2A-238C52A48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09F28-9384-4566-A699-70F1D1F58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9F108-8343-4A88-A96F-9CF6A3A1A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88164-7F29-4B6D-A63C-BB98B8EE1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3442F-DAA8-4D37-96C0-B2B7B7E84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2279E-D0E8-4F23-A52F-AF0EB26DE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2B917-1049-44C3-B21D-DEB553872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BCAB6-5712-48C9-A8AF-41EC888B7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8FC8A-B977-4157-892D-CAB8E845C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98355-C2E8-4644-A894-252002D32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6F879-A58F-4A09-A3A6-377FBFC04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285-99C1-4172-9841-160B3B5C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CCE-2554-4A58-AFCE-E61A000C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177-724A-42B4-B4A1-EB42921F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52C-E70F-451F-A278-1979365F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CAD-468E-471B-B748-65452CB9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1DF-B068-459B-9DF1-C63D3561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51E-56B3-43AC-9582-F0E4F69B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833-9536-4EB1-BD9E-6FF7D36F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731-BB9C-42D0-B6A8-E1AC7EA7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79D-EC75-46D3-86ED-BEC37C07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FD0-0159-4A6C-B38A-72B7AFD7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5F5-0BCA-4047-A2B8-C43BB793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BDA5-270E-4AFD-8CDF-0B2318BFE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ILLINOIS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BUILDING SCHO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FAMILY, AND COMMUNITY 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utura Lt BT"/>
              </a:rPr>
              <a:t>Primarily based upon Epstein, J.L. Costes, L. Salinas, K.C. Sanders, M. G. &amp; Simon, B. S. (1977). </a:t>
            </a:r>
            <a:r>
              <a:rPr b="1" i="1" lang="en-US" sz="2000" spc="-1" strike="noStrike">
                <a:solidFill>
                  <a:srgbClr val="ffffff"/>
                </a:solidFill>
                <a:latin typeface="Futura Lt BT"/>
              </a:rPr>
              <a:t>School Family, and Community Partnerships: Your Handbook for Action</a:t>
            </a:r>
            <a:r>
              <a:rPr b="1" lang="en-US" sz="2000" spc="-1" strike="noStrike">
                <a:solidFill>
                  <a:srgbClr val="ffffff"/>
                </a:solidFill>
                <a:latin typeface="Futura Lt BT"/>
              </a:rPr>
              <a:t>.  Thousand Oaks, CA: Corwin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Incomplete version of a presentation develop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The Adult Learning Resource Center, Des Plaines, I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Visuals were added by Jeanette Gord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Futura Lt BT"/>
              </a:rPr>
              <a:t>Illinois Resource Center to aide communication with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828800" y="1295280"/>
            <a:ext cx="5410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34280" cy="5133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380880" y="304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TYPE 1: SUPPORTING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533520" y="3049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RE STRATEGIES FOR TYPE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UPPORTING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685800" y="1122480"/>
            <a:ext cx="78487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3600" spc="-1" strike="noStrike">
                <a:solidFill>
                  <a:srgbClr val="ffffff"/>
                </a:solidFill>
                <a:latin typeface="Futura Lt BT"/>
              </a:rPr>
              <a:t>2. COMMUNIC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ring effective, multiple channels of communication between all the stakeholders in children’s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6781680" y="1752480"/>
            <a:ext cx="1905120" cy="1447920"/>
          </a:xfrm>
          <a:prstGeom prst="wedgeRoundRectCallout">
            <a:avLst>
              <a:gd name="adj1" fmla="val -50500"/>
              <a:gd name="adj2" fmla="val 1067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 flipH="1">
            <a:off x="4647600" y="1752480"/>
            <a:ext cx="1904760" cy="1447920"/>
          </a:xfrm>
          <a:prstGeom prst="wedgeRoundRectCallout">
            <a:avLst>
              <a:gd name="adj1" fmla="val -42500"/>
              <a:gd name="adj2" fmla="val 101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 rot="10800000">
            <a:off x="4648320" y="4572000"/>
            <a:ext cx="2590560" cy="1447920"/>
          </a:xfrm>
          <a:prstGeom prst="wedgeRoundRectCallout">
            <a:avLst>
              <a:gd name="adj1" fmla="val -23898"/>
              <a:gd name="adj2" fmla="val 1067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724280" y="5029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Reflective Questions for Type #2: Communic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80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the school keep parents informed of school programming and students’ prog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might the school insure all information is clear and relevant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Futura Lt BT"/>
              </a:rPr>
              <a:t>all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 famil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the school keep a broad range of community members informed of school programming and students’ prog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the school find out what the parents and community members expect from the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2209680" y="1752480"/>
            <a:ext cx="5181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762120" y="304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ATEGIES FOR TYPE 2: COMMUNIC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Communication about school/classroom programs and student progress” is not only one way, from school-to-home, but also includes two-way and many-way channels of communication that connect schools with all students’ families and their commu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me-to-School Communication” is not a given, but should be encouraged and if necessary, families should be informed of or taught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057400" y="1295280"/>
            <a:ext cx="518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3600" spc="-1" strike="noStrike">
                <a:solidFill>
                  <a:srgbClr val="ffffff"/>
                </a:solidFill>
                <a:latin typeface="Futura Lt BT"/>
              </a:rPr>
              <a:t>3: VOLUNT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interest, talents and availability of family and community members and then providing varied opportunities and needed training for them to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j0399786"/>
          <p:cNvPicPr/>
          <p:nvPr/>
        </p:nvPicPr>
        <p:blipFill>
          <a:blip r:embed="rId1"/>
          <a:stretch/>
        </p:blipFill>
        <p:spPr>
          <a:xfrm>
            <a:off x="4495680" y="1752480"/>
            <a:ext cx="3892680" cy="2594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352680" y="47242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NTEERS, AUDIENCES,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029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Reflective Questions for Type #3: Volunt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2438280" y="1752480"/>
            <a:ext cx="4724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952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80880" y="1905120"/>
            <a:ext cx="86108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your school find out the talents, interests and availability of parents and community me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your school recruit and equip volunteers with the skills they need to enrich school programs/curriculum and support student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does your school match volunteers with school, student, and family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How might your school expand the use of volunteers to beyond the school day and the school buil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ATEGIES FOR TYPE 3: VOLUN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762120" y="969840"/>
            <a:ext cx="77724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3600" spc="-1" strike="noStrike">
                <a:solidFill>
                  <a:srgbClr val="ffffff"/>
                </a:solidFill>
                <a:latin typeface="Futura Lt BT"/>
              </a:rPr>
              <a:t>4: LEARNING AT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Practices to encourage learning outside the classroom assists parents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Futura Lt BT"/>
              </a:rPr>
              <a:t>supporting their children as lear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j0178721"/>
          <p:cNvPicPr/>
          <p:nvPr/>
        </p:nvPicPr>
        <p:blipFill>
          <a:blip r:embed="rId1"/>
          <a:stretch/>
        </p:blipFill>
        <p:spPr>
          <a:xfrm>
            <a:off x="5043600" y="1600200"/>
            <a:ext cx="324792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j0308965"/>
          <p:cNvPicPr/>
          <p:nvPr/>
        </p:nvPicPr>
        <p:blipFill>
          <a:blip r:embed="rId2"/>
          <a:stretch/>
        </p:blipFill>
        <p:spPr>
          <a:xfrm>
            <a:off x="5035680" y="3938760"/>
            <a:ext cx="3263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THE INFLUENTIAL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WORLDS OF A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828800" y="1295280"/>
            <a:ext cx="5410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8"/>
          <p:cNvSpPr/>
          <p:nvPr/>
        </p:nvSpPr>
        <p:spPr>
          <a:xfrm>
            <a:off x="205740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5105520" y="3733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0"/>
          <p:cNvSpPr/>
          <p:nvPr/>
        </p:nvSpPr>
        <p:spPr>
          <a:xfrm>
            <a:off x="2286000" y="6172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Community and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3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276720" cy="217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06072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1459080" cy="218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1895760" cy="189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"/>
          <p:cNvPicPr/>
          <p:nvPr/>
        </p:nvPicPr>
        <p:blipFill>
          <a:blip r:embed="rId5"/>
          <a:stretch/>
        </p:blipFill>
        <p:spPr>
          <a:xfrm>
            <a:off x="4267080" y="4191120"/>
            <a:ext cx="2895840" cy="19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3" descr=""/>
          <p:cNvPicPr/>
          <p:nvPr/>
        </p:nvPicPr>
        <p:blipFill>
          <a:blip r:embed="rId6"/>
          <a:stretch/>
        </p:blipFill>
        <p:spPr>
          <a:xfrm>
            <a:off x="7315200" y="38098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  “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MEWORK”  not only means work that students do alone, but also interactive activities that students share with others at home or in the community, linking schoolwork with re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2057400" y="1219320"/>
            <a:ext cx="518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MPj03091660000[1]"/>
          <p:cNvPicPr/>
          <p:nvPr/>
        </p:nvPicPr>
        <p:blipFill>
          <a:blip r:embed="rId1"/>
          <a:stretch/>
        </p:blipFill>
        <p:spPr>
          <a:xfrm>
            <a:off x="5029200" y="1752480"/>
            <a:ext cx="3657600" cy="2401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80880" y="4952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” at home means how families encourage, listen, react, praise, guide, monitor, and discuss schoolwork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t how they teac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ren school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Reflective Questions for Type #4: Learning at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0880" y="2057400"/>
            <a:ext cx="84582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does the school increase the parents’ understanding of what their children need to learn at every grade for promotion and/or gradu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do teachers provide information to parents about what student are learning in their classroo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might the school find out what parents want and/or need to learn to help their children learn outside their classroo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2514600" y="1752480"/>
            <a:ext cx="4419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ATEGIES FOR TYPE 4: LEARNING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852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3600" spc="-1" strike="noStrike">
                <a:solidFill>
                  <a:srgbClr val="ffffff"/>
                </a:solidFill>
                <a:latin typeface="Futura Lt BT"/>
              </a:rPr>
              <a:t>5: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114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Provide opportunities and training for family and community members to assume leadership and participatory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1963800" cy="2971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2085840" cy="3124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25779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  “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DECISION-MAKING” means a process of partnership, of shared views and actions toward shared goals, </a:t>
            </a:r>
            <a:r>
              <a:rPr b="1" i="1" lang="en-US" sz="2800" spc="-1" strike="noStrike">
                <a:solidFill>
                  <a:srgbClr val="ffffff"/>
                </a:solidFill>
                <a:latin typeface="Futura Lt BT"/>
              </a:rPr>
              <a:t>not just a power struggle 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between conflicting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914400" y="1219320"/>
            <a:ext cx="518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49528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ENT LEADER” means a representative who shares information with and obtains ideas from other families and community members, not just a parent who attends school mee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5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514600" cy="2009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1949400" cy="266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"/>
          <p:cNvPicPr/>
          <p:nvPr/>
        </p:nvPicPr>
        <p:blipFill>
          <a:blip r:embed="rId3"/>
          <a:stretch/>
        </p:blipFill>
        <p:spPr>
          <a:xfrm>
            <a:off x="7086600" y="2514600"/>
            <a:ext cx="1609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Reflective Questions for Type #5: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2362320" y="1676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80880" y="2057400"/>
            <a:ext cx="86108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does the school encourage parents to provide input into policies, improvement plans and proced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might the school provide leadership training for parents in decision making pos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does the school encourage community members to provide input into policies, improvement plans and proced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915840" y="228600"/>
            <a:ext cx="69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ATEGIES FOR TYPE 5: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1"/>
          <a:stretch/>
        </p:blipFill>
        <p:spPr>
          <a:xfrm>
            <a:off x="457200" y="766800"/>
            <a:ext cx="82296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2800" spc="-1" strike="noStrike">
                <a:solidFill>
                  <a:srgbClr val="ffffff"/>
                </a:solidFill>
                <a:latin typeface="Futura Lt BT"/>
              </a:rPr>
              <a:t>6: COLLABORATING WITHIN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114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Enable schools, students and their families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Futura Lt BT"/>
              </a:rPr>
              <a:t>readily access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the support services, work opportunities and other needed resources/help in thei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Enable schools and famili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Futura Lt BT"/>
              </a:rPr>
              <a:t>to contribute and support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services to thei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"/>
          <p:cNvPicPr/>
          <p:nvPr/>
        </p:nvPicPr>
        <p:blipFill>
          <a:blip r:embed="rId1"/>
          <a:stretch/>
        </p:blipFill>
        <p:spPr>
          <a:xfrm>
            <a:off x="4419720" y="3505320"/>
            <a:ext cx="4419360" cy="3157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2"/>
          <a:stretch/>
        </p:blipFill>
        <p:spPr>
          <a:xfrm>
            <a:off x="5881680" y="990720"/>
            <a:ext cx="208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   “</a:t>
            </a: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COMMUNITY” not only means the immediate neighborhoods where schools are located, but any neighborhoods or locations that influence their learning develop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2057400" y="1219320"/>
            <a:ext cx="518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80880" y="4952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TY” is rated not only by low or high social or economic qualities, but also by strengths and talents available to support students, families, and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j0289538"/>
          <p:cNvPicPr/>
          <p:nvPr/>
        </p:nvPicPr>
        <p:blipFill>
          <a:blip r:embed="rId1"/>
          <a:stretch/>
        </p:blipFill>
        <p:spPr>
          <a:xfrm>
            <a:off x="4800600" y="1981080"/>
            <a:ext cx="365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Futura Lt BT"/>
              </a:rPr>
              <a:t>Reflective Questions for Type #6: Collaborating Within the Commun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2362320" y="1676520"/>
            <a:ext cx="47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533520" y="2057400"/>
            <a:ext cx="84582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utura Lt BT"/>
              </a:rPr>
              <a:t>How is the school used and valued by the community(ies) it serv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utura Lt BT"/>
              </a:rPr>
              <a:t>How does the school use and value its community resourc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utura Lt BT"/>
              </a:rPr>
              <a:t>How do the families use and value their community resourc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utura Lt BT"/>
              </a:rPr>
              <a:t>How might the school work with the community to expand the relationship between school and career/work opportuniti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Lt BT"/>
              </a:rPr>
              <a:t>KEY PRINCIPLES OF TH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a Lt BT"/>
              </a:rPr>
              <a:t>PARTNERSHIP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j0341499"/>
          <p:cNvPicPr/>
          <p:nvPr/>
        </p:nvPicPr>
        <p:blipFill>
          <a:blip r:embed="rId1"/>
          <a:stretch/>
        </p:blipFill>
        <p:spPr>
          <a:xfrm>
            <a:off x="4637160" y="609480"/>
            <a:ext cx="3860640" cy="5410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E 6: COLLABORATING WITHIN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15364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inking Partnerships To School Improvement Priority Go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2819520" y="1905120"/>
            <a:ext cx="434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62120" y="2057400"/>
            <a:ext cx="777240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amples of School Improvement Priority G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crease the number of students scoring   at or above the national norms in rea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crease student and staff access and expand the use of work that is completed through the use of technolo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crease student use of school library for independent (pleasure) reading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779480" cy="266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3192480" cy="2552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743200" y="304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Parents are the principle teachers of their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5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2727360" cy="218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"/>
          <p:cNvPicPr/>
          <p:nvPr/>
        </p:nvPicPr>
        <p:blipFill>
          <a:blip r:embed="rId4"/>
          <a:stretch/>
        </p:blipFill>
        <p:spPr>
          <a:xfrm>
            <a:off x="6400800" y="3124080"/>
            <a:ext cx="2502000" cy="200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"/>
          <p:cNvPicPr/>
          <p:nvPr/>
        </p:nvPicPr>
        <p:blipFill>
          <a:blip r:embed="rId5"/>
          <a:stretch/>
        </p:blipFill>
        <p:spPr>
          <a:xfrm>
            <a:off x="3276720" y="4419720"/>
            <a:ext cx="289548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2. It is the school’s responsibility to initiate active communication with parents in order to establish a trusting relationship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0" descr="j0398817"/>
          <p:cNvPicPr/>
          <p:nvPr/>
        </p:nvPicPr>
        <p:blipFill>
          <a:blip r:embed="rId1"/>
          <a:stretch/>
        </p:blipFill>
        <p:spPr>
          <a:xfrm>
            <a:off x="1981080" y="1905120"/>
            <a:ext cx="548640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04920" y="22860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A positive partnership between parents and teachers will empower the parents, the teachers and th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62485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19320" y="634032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j0386325"/>
          <p:cNvPicPr/>
          <p:nvPr/>
        </p:nvPicPr>
        <p:blipFill>
          <a:blip r:embed="rId1"/>
          <a:stretch/>
        </p:blipFill>
        <p:spPr>
          <a:xfrm>
            <a:off x="1219320" y="2133720"/>
            <a:ext cx="2706480" cy="409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MPj04003540000[1]"/>
          <p:cNvPicPr/>
          <p:nvPr/>
        </p:nvPicPr>
        <p:blipFill>
          <a:blip r:embed="rId2"/>
          <a:stretch/>
        </p:blipFill>
        <p:spPr>
          <a:xfrm>
            <a:off x="4800600" y="4191120"/>
            <a:ext cx="3282840" cy="218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j0400379"/>
          <p:cNvPicPr/>
          <p:nvPr/>
        </p:nvPicPr>
        <p:blipFill>
          <a:blip r:embed="rId3"/>
          <a:stretch/>
        </p:blipFill>
        <p:spPr>
          <a:xfrm>
            <a:off x="4800600" y="1905120"/>
            <a:ext cx="3279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SIX TYPES OF SCHOOL, FAMILY, AND COMMUNITY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Supporting Adults as Parent, Workers and Communit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Volunt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Learning at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Futura L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Lt BT"/>
              </a:rPr>
              <a:t>Collaborating Withi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828800" y="1600200"/>
            <a:ext cx="5410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TYPE </a:t>
            </a:r>
            <a:r>
              <a:rPr b="1" i="1" lang="en-US" sz="3600" spc="-1" strike="noStrike">
                <a:solidFill>
                  <a:srgbClr val="ffffff"/>
                </a:solidFill>
                <a:latin typeface="Futura Lt BT"/>
              </a:rPr>
              <a:t>1. SUPPORTING AD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s which support adults as caretaker, workers and community members can assist adults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pporting their children as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386355"/>
          <p:cNvPicPr/>
          <p:nvPr/>
        </p:nvPicPr>
        <p:blipFill>
          <a:blip r:embed="rId1"/>
          <a:stretch/>
        </p:blipFill>
        <p:spPr>
          <a:xfrm>
            <a:off x="4952880" y="144792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PPH01913J0000[1]"/>
          <p:cNvPicPr/>
          <p:nvPr/>
        </p:nvPicPr>
        <p:blipFill>
          <a:blip r:embed="rId2"/>
          <a:stretch/>
        </p:blipFill>
        <p:spPr>
          <a:xfrm>
            <a:off x="4952880" y="3886200"/>
            <a:ext cx="32004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Lt BT"/>
              </a:rPr>
              <a:t>Reflective Questions for Type #1:  Supporting Ad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does the school support parents as lifelong learn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might the school find out what parents want to and/or need to learn to successfully assume their roles as caretakers, workers and community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Lt BT"/>
              </a:rPr>
              <a:t>How does the school assist parents in establishing home conditions which support their children’s development at all 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1752480" y="1523880"/>
            <a:ext cx="5410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23:23:47Z</dcterms:created>
  <dc:creator>Jeanette Gordon</dc:creator>
  <dc:description/>
  <dc:language>en-US</dc:language>
  <cp:lastModifiedBy>Jeanette</cp:lastModifiedBy>
  <dcterms:modified xsi:type="dcterms:W3CDTF">2010-08-16T00:27:02Z</dcterms:modified>
  <cp:revision>19</cp:revision>
  <dc:subject/>
  <dc:title>Slide 1</dc:title>
</cp:coreProperties>
</file>